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lativ_x000b_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3"/>
            <a:endCxn id="98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49072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1" idx="3"/>
            <a:endCxn id="99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ythrozytenzah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9360" y="54936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Erythrozytenzahl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nder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7480" y="549360"/>
            <a:ext cx="73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aktive Polyglobu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ronischen Sauerstoffmangel &gt; Hypoxie &gt; verminderter 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DC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ortensten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8" idx="3"/>
            <a:endCxn id="160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251640" y="6396840"/>
            <a:ext cx="32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CM = dilatative Kardiomyopathi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7000" y="549360"/>
            <a:ext cx="80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rythrozytenzahl ↑ &gt; absolut &gt; reaktive Polyglobulie &gt; 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ronischen Sauerstoffmangel &gt; Hypoxie &gt; Vermischung von arteriell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d 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3"/>
            <a:endCxn id="167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PD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umgedrehter VSD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ulmonäre ateriovenöse Fistel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080" y="6153480"/>
            <a:ext cx="374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DA = persistierender Ductus ateriosu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SD = Ventrikelseptumdefek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v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hydrat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3240" y="549360"/>
            <a:ext cx="48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relativ (zu wenig Plasma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reaktive Polyglobu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3"/>
            <a:endCxn id="113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4" name=""/>
          <p:cNvCxnSpPr>
            <a:stCxn id="110" idx="3"/>
            <a:endCxn id="111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lyzythämia vera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47520" y="549360"/>
            <a:ext cx="30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aktive Polyglobu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auerstoff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3"/>
            <a:endCxn id="120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1" name=""/>
          <p:cNvCxnSpPr>
            <a:stCxn id="117" idx="3"/>
            <a:endCxn id="118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045080" y="549360"/>
            <a:ext cx="54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reaktive Polyglobu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PO-produzieren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Tumor i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ier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63968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PO = Erythropoeti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uerstoff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8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29" name=""/>
          <p:cNvCxnSpPr>
            <a:stCxn id="125" idx="3"/>
            <a:endCxn id="12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1103040" y="549360"/>
            <a:ext cx="71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reaktive Polyglobu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chronischen Sauerstoffmange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fenthalt in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oßer Hö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verminder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kardial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uswur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3"/>
            <a:endCxn id="135" idx="1"/>
          </p:cNvCxnSpPr>
          <p:nvPr/>
        </p:nvCxnSpPr>
        <p:spPr>
          <a:xfrm flipV="1">
            <a:off x="3313080" y="2730600"/>
            <a:ext cx="2689920" cy="135108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6" name=""/>
          <p:cNvCxnSpPr>
            <a:stCxn id="132" idx="3"/>
            <a:endCxn id="133" idx="1"/>
          </p:cNvCxnSpPr>
          <p:nvPr/>
        </p:nvCxnSpPr>
        <p:spPr>
          <a:xfrm>
            <a:off x="3313080" y="4080960"/>
            <a:ext cx="268992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Vermisch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rteriellem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venösem 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2" idx="3"/>
            <a:endCxn id="137" idx="1"/>
          </p:cNvCxnSpPr>
          <p:nvPr/>
        </p:nvCxnSpPr>
        <p:spPr>
          <a:xfrm>
            <a:off x="3313080" y="4080960"/>
            <a:ext cx="2689920" cy="1350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1103040" y="549360"/>
            <a:ext cx="71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reaktive Polyglobu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chronischen Sauerstoff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Hypo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3" action="ppaction://hlinksldjump"/>
              </a:rPr>
              <a:t>Atemwegs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emwegs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ober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ingeschrän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unge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3"/>
            <a:endCxn id="142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5" name=""/>
          <p:cNvCxnSpPr>
            <a:stCxn id="141" idx="3"/>
            <a:endCxn id="143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103040" y="549360"/>
            <a:ext cx="71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8" action="ppaction://hlinksldjump"/>
              </a:rPr>
              <a:t>reaktive Polyglobu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9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0" action="ppaction://hlinksldjump"/>
              </a:rPr>
              <a:t>chronischen Sauerstoff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1" action="ppaction://hlinksldjump"/>
              </a:rPr>
              <a:t>Hypo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2" action="ppaction://hlinksldjump"/>
              </a:rPr>
              <a:t>Atemwegserkrank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struktion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3040" y="549360"/>
            <a:ext cx="712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aktive Polyglobu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chronischen Sauerstoff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temwegserkrank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truktion der oberen Atemweg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5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chealkollap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rynxparaly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achiozephalen-Syndrom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ngeschränkt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unge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3040" y="549360"/>
            <a:ext cx="712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rythrozytenzahl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absolut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reaktive Polyglobul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Anpassung a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chronischen Sauerstoffmange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Hypoxi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Atemwegserkrankung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ingeschränkte Lungenfun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3"/>
            <a:endCxn id="156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neumon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tumor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ungenödem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(kardiogen u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icht-kardiogen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5T13:04:44Z</dcterms:modified>
  <cp:revision>333</cp:revision>
  <dc:subject/>
  <dc:title>Vorstellung einer Neuheit</dc:title>
</cp:coreProperties>
</file>